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95DB-6A4E-405F-B80A-88965D6E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A1F-7BFD-4099-955A-503A0999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4CD-81E1-45E0-BC8B-3983649D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69DC-3FA4-435D-8C5E-535D9019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307B-BF2C-48DD-B5DD-6EA9D923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52AB-5D21-405E-8222-F4D6BC9B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5A28-FF43-4619-A0C7-7042D4F9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9542-2D84-462E-9C0A-B9165F49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823-1DF7-476B-81A3-3CA0C209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7D1-4AC2-498C-87A8-B92173EB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4815-8194-4B88-9D7B-C67AEC83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2A75-314B-4615-A63A-F6061816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59A7-E84F-4ED9-8B9C-37C46D4266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7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EED  VALLEY  TOURISTS         VALLEY  TOURISTS                       VALLEY  TOURISTS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657600" y="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.  16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Tweed Valley Tourists 2.JPG"/>
          <p:cNvPicPr/>
          <p:nvPr/>
        </p:nvPicPr>
        <p:blipFill>
          <a:blip r:embed="rId1"/>
          <a:stretch/>
        </p:blipFill>
        <p:spPr>
          <a:xfrm>
            <a:off x="1639800" y="115920"/>
            <a:ext cx="1408320" cy="137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Tweed Valley Tourists 1.jpg"/>
          <p:cNvPicPr/>
          <p:nvPr/>
        </p:nvPicPr>
        <p:blipFill>
          <a:blip r:embed="rId2"/>
          <a:stretch/>
        </p:blipFill>
        <p:spPr>
          <a:xfrm>
            <a:off x="344520" y="446040"/>
            <a:ext cx="107964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Tweed Valley Tourists 3.JPG"/>
          <p:cNvPicPr/>
          <p:nvPr/>
        </p:nvPicPr>
        <p:blipFill>
          <a:blip r:embed="rId3"/>
          <a:stretch/>
        </p:blipFill>
        <p:spPr>
          <a:xfrm>
            <a:off x="3440160" y="476280"/>
            <a:ext cx="104292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9:29:27Z</dcterms:created>
  <dc:creator>JY</dc:creator>
  <dc:description/>
  <dc:language>en-US</dc:language>
  <cp:lastModifiedBy>John</cp:lastModifiedBy>
  <dcterms:modified xsi:type="dcterms:W3CDTF">2011-12-20T21:56:55Z</dcterms:modified>
  <cp:revision>9</cp:revision>
  <dc:subject/>
  <dc:title>Slide 1</dc:title>
</cp:coreProperties>
</file>